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4B8-AD26-41C5-BA6C-B6C399CA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517-B3C6-4DA9-8AC9-1C810B69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EDD-FD95-44EA-913A-5FFACE97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CFC-4869-474E-AABD-3063444E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81D-5E13-4635-9D82-8815D572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818-A826-42B2-9EA3-BCCE9810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031-5E00-4965-A19B-01F90324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BFC-A012-4A46-B594-58B3EE28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569-89DC-40CD-AFE4-D360E626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B29-F96B-49F1-890B-4CAC40D7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066-151F-41E0-A571-891EFEE7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D2C-A35B-4253-8990-3C03C699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F155-ACF2-4778-ABA6-7AD0C54DA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1828800"/>
            <a:ext cx="3514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ortez and Pizarro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ack and Jos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7621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They were Polythe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Controlled many other tribes and forced them to give them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The Aztecs were brought down by small p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The capital was Tenochtitlan  it was special because it was in the middle of the l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The Spaniards waited all day to attack and finally they attacked at sunse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PyramidOfTheMoonFromPyramidOfTheSun.jpg"/>
          <p:cNvPicPr/>
          <p:nvPr/>
        </p:nvPicPr>
        <p:blipFill>
          <a:blip r:embed="rId1"/>
          <a:stretch/>
        </p:blipFill>
        <p:spPr>
          <a:xfrm>
            <a:off x="6705720" y="457200"/>
            <a:ext cx="2286000" cy="1227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1-Aztec_Empire_Map.png"/>
          <p:cNvPicPr/>
          <p:nvPr/>
        </p:nvPicPr>
        <p:blipFill>
          <a:blip r:embed="rId2"/>
          <a:stretch/>
        </p:blipFill>
        <p:spPr>
          <a:xfrm>
            <a:off x="228600" y="0"/>
            <a:ext cx="23623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808520"/>
            <a:ext cx="2577960" cy="2049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47920" y="1447920"/>
            <a:ext cx="716256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They lived in the Andes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They were polytheis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Capital is Cuz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Got attacked by conquista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13360" y="443556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381720" y="4724280"/>
            <a:ext cx="2762280" cy="213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499080" y="5859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597 -0.44879 L 0.03403 -0.11584 E">
                                      <p:cBhvr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They lived on Mexican co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Polythe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Did not have a lot of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They had slaves that could sometimes gain there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Had many important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010280" y="1143000"/>
            <a:ext cx="1685880" cy="1841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2920" y="38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029200" y="5057640"/>
            <a:ext cx="2543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the Aztecs thought he was a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He took montezuma hostage and montezuma was killed in the fight that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When the Spaniards were exploring they herd of gold they turned there search or passage to a search 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Pizarro fight a civil war with the Spanish and Pizzaro snuck in on the civil war and defeated the Azt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Pizarro went to the Andes because of the gold he heard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5410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402 -0.18566 C 0.28211 -0.20532 0.70156 -0.24786 0.72534 -0.17503 C 0.74913 -0.10219 0.41892 0.24 0.32691 0.25203 C 0.23489 0.26405 0.20468 -0.05179 0.17291 -0.10312 C 0.14114 -0.15445 0.13437 -0.04231 0.13645 -0.05664 C 0.13854 -0.07098 0.08593 -0.16601 0.18402 -0.18566 Z">
                                      <p:cBhvr>
                                        <p:cTn id="2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conclusion slide, answer the following question in your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Today in 2011 a lot of people in central and south America speak Spanish because of the Spanish conquistad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981080" y="0"/>
            <a:ext cx="4724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 rot="5400000">
            <a:off x="5329440" y="2591280"/>
            <a:ext cx="381312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16 -0.01226 L -0.61649 0.08763 E">
                                      <p:cBhvr>
                                        <p:cTn id="3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3:53:27Z</dcterms:created>
  <dc:creator>jklib</dc:creator>
  <dc:description/>
  <dc:language>en-US</dc:language>
  <cp:lastModifiedBy>jklib</cp:lastModifiedBy>
  <dcterms:modified xsi:type="dcterms:W3CDTF">2011-11-28T14:58:02Z</dcterms:modified>
  <cp:revision>5</cp:revision>
  <dc:subject/>
  <dc:title>Slide 1</dc:title>
</cp:coreProperties>
</file>